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4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2.jpeg" ContentType="image/jpeg"/>
  <Override PartName="/ppt/media/image1.jpeg" ContentType="image/jpeg"/>
  <Override PartName="/ppt/media/image25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19DB-EB62-474A-867C-338F15F97A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on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for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invaded Washington, D.C. in 18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soldiers burned the Capitol, the White House, and other public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British burned the White House, Dolley Madison saved a famous painting of George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on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for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invaded Washington, D.C. in 18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soldiers burned the Capitol, the White House, and other public bui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British burned the White House, Dolley Madison saved a famous painting of 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at Fort McHen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s Scott Key: an American lawyer and prisoner of the 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w an American flag flying over Ft. McHenry after the b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ag inspired Key to write “The Star-Spangled Banne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at Fort McHen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s Scott Key: an American lawyer and prisoner of the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w an American flag flying over Ft. McHenry after the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ag inspired Key to write “The Star-Spangled Bann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of New Orleans (18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famous/important battle of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lead to victory by General Andrew Jack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continued even after the war ended because word did not reach the Americans for several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of New Orleans (18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famous/important battle of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lead to victory by General Andrew Jack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continued even after the war ended because word did not reach the Americans for several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aty of Gh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December, 1815, British and Americans met in Ghent, Belgium to negotiate a peace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the w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American became better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gained respect from other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aty of Gh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December, 1815, British and Americans met in Ghent, Belgium to negotiate a peace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the wa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American became better al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gained respect from other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ter 6, Sec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ter 6, Sec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France were fighting a war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began capturing American sailors and “impressing” them, or forcing them to work on British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07, Britain had seized more than 1,000 American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France were fighting a war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began capturing American sailors and “impressing” them, or forcing them to work on British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07, Britain had seized more than 1,000 American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 Act of 1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efferson convinced Congress to declare an emba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erson believed the embargo would hurt Britain, but it really hur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09, Congress ended the embargo with all countries except Britain and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 Act of 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efferson convinced Congress to declare an emb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erson believed the embargo would hurt Britain, but it really hurt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09, Congress ended the embargo with all countries except Britain and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’s Desire for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saw that Canada was not well-defended by 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anted more land and believed that people in Canada would want to jo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’s Desire for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saw that Canada was not well-defended by 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anted more land and believed that people in Canada would want to jo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Haw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Republican Congressmen from the South and W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war agains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by Senator John C. Calhoun of South Carolina and Henry Clary of Kentuc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Haw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Republican Congressmen from the South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war agains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by Senator John C. Calhoun of South Carolina and Henry Clary of Kentuc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of 18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, a Democratic-Republican, w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pring of 1812, Madison decided to go to war agains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of 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, a Democratic-Republican, w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pring of 1812, Madison decided to go to war agains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in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unprepared for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captured Detroit and the Americans failed to capture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Native Americans helped the British because they wanted to stop Americans from taking mor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in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unprepared for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captured Detroit and the Americans failed to captur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Native Americans helped the British because they wanted to stop Americans from taking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at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avy was young and out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ovember of 1812, the British blockaded the Chesapeake and Delaware B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ade grew throughout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13, most American ships were unable to leave their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at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avy was young and outnumb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ovember of 1812, the British blockaded the Chesapeake and Delaware B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ade grew throughout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13, most American ships were unable to leave their 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13FF-4F45-4282-B6F3-741869DE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D083-0424-4A84-9468-62570886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26B5-2EC3-47D3-B19B-9762BD6F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8632-A936-4C43-8FEB-33E321B8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E752-7E10-4D8D-8E0A-EB882C9F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9857-0496-4F44-8663-8C9C731F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FED6-67EA-429E-90B0-1808F3A1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73F4-DFB9-4CB7-A2FF-9E63A4E6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7BC9-8013-4DDE-9D9B-403FC674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4302-CE25-4995-84F1-DD7321D2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59ED-46CF-4099-90E7-0226C0D1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4457-FA08-4959-BE36-FE8FA0E9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879B-5785-49E9-A76C-6BDCEEC0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5C44-C89A-4B72-8D68-3A677508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1AAD-F210-416F-AF06-E087934A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0029-33E1-4EA7-96F4-170369F4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3DE2-87A4-4625-815B-D70D8CA0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4201C-EB48-420A-BE76-9805D265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23488-92BD-4E92-A3C2-77BC9AE7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A0A58-8243-4CF4-8C83-094A637F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19D0C-2E1B-41A5-94D1-ACC5D0B2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E56F7-61A6-45EE-93A6-1FAE6053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E957-D144-4391-A093-D0B5B60C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E7B5F-3049-4BCB-A421-7F3694DA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20397-ACD8-40FE-9E80-235CF3FB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9AB96-1F57-414A-92F5-4FDDDF71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156C9-522E-4E7A-9F51-B98729B9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1AA26-FF5A-48C9-A09A-61D7BF94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E2778-2264-4123-AF08-B0004047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90D1C-1F5A-4F61-B03D-825C5EB1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BCFD7-9670-4140-822C-577055C0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C57A2-2224-4C9C-906C-00C2A511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EC038-BDD0-429A-8839-0BB132FB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FCBC-312E-40AA-AD10-0BA39C55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18383-6DCB-4D89-93BA-5FB37844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2039D-C34B-4776-98FE-F2F7C1A2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34425-EB22-47C3-A79B-200BE7E6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4E270-0200-4F69-AE4A-EBE47DA8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69DE2-5B68-4EE4-9B7E-78923ADA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A1BC4-DC27-40B5-A378-658E195B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A305F-F475-4D6C-9803-0AF9F074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31473-4818-4573-8BD3-0BB88048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A6C11-2CD4-4965-8715-226E527E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92C4-F971-45B0-96F3-83FFD0BD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012C-5333-405A-8E0B-063CBAB9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FAE8-C05D-4419-9199-66CA491F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E3FE-0A8A-46BF-B881-CE98D115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7769-0A12-4854-A2F6-571352F4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Rectangle 3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00000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96969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-12600" y="936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-6480" y="3078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57320" y="336600"/>
                <a:ext cx="782640" cy="1087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49280" y="7412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Click to edit the outline text format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con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Thir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3" marL="19810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our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4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if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5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ix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6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ven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E658-B05F-49F2-ABB9-760451D8E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1248-E3B7-4440-AF4B-892F2B35D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E404-0D13-4F88-A343-F36D5A675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131" name="Rectangle 3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00000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96969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5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134" name="Freeform 6"/>
              <p:cNvSpPr/>
              <p:nvPr/>
            </p:nvSpPr>
            <p:spPr>
              <a:xfrm>
                <a:off x="-12600" y="16812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7"/>
              <p:cNvSpPr/>
              <p:nvPr/>
            </p:nvSpPr>
            <p:spPr>
              <a:xfrm>
                <a:off x="-6480" y="18954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8"/>
              <p:cNvSpPr/>
              <p:nvPr/>
            </p:nvSpPr>
            <p:spPr>
              <a:xfrm>
                <a:off x="157320" y="192420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9"/>
              <p:cNvSpPr/>
              <p:nvPr/>
            </p:nvSpPr>
            <p:spPr>
              <a:xfrm>
                <a:off x="449280" y="23288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Click to edit the outline text format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con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Thir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3" marL="19810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our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4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if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5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ix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6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ven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37DE-6A61-494C-AE31-BA68F1057CB4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BernhardMod BT"/>
              </a:rPr>
              <a:t>Click to edit the title text format</a:t>
            </a: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map 1812"/>
          <p:cNvPicPr/>
          <p:nvPr/>
        </p:nvPicPr>
        <p:blipFill>
          <a:blip r:embed="rId1"/>
          <a:stretch/>
        </p:blipFill>
        <p:spPr>
          <a:xfrm>
            <a:off x="762120" y="3240"/>
            <a:ext cx="7772400" cy="6837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2" descr="123"/>
          <p:cNvPicPr/>
          <p:nvPr/>
        </p:nvPicPr>
        <p:blipFill>
          <a:blip r:embed="rId1"/>
          <a:stretch/>
        </p:blipFill>
        <p:spPr>
          <a:xfrm>
            <a:off x="304920" y="1143000"/>
            <a:ext cx="2617560" cy="32004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038120" y="1447560"/>
            <a:ext cx="4953240" cy="5257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on Land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attle for Washingt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ritish invaded Washington, D.C. in 181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ish soldiers burned the Capitol, the White House, and other public building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fore the British burned the White House,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Dolley Madis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saved a famous painting of George Washingt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2" name="Picture 25" descr="Dolly Fire"/>
          <p:cNvPicPr/>
          <p:nvPr/>
        </p:nvPicPr>
        <p:blipFill>
          <a:blip r:embed="rId2"/>
          <a:stretch/>
        </p:blipFill>
        <p:spPr>
          <a:xfrm>
            <a:off x="1371600" y="3887640"/>
            <a:ext cx="4038480" cy="282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886200" y="1752480"/>
            <a:ext cx="5105520" cy="4114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attle at Fort McHenr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Francis Scott Ke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an American lawyer and prisoner of the Britis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aw an American flag flying over Ft. McHenry after the batt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flag inspired Key to write “The Star-Spangled Banner”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4" name="Picture 3" descr="FortMcHenry1814a"/>
          <p:cNvPicPr/>
          <p:nvPr/>
        </p:nvPicPr>
        <p:blipFill>
          <a:blip r:embed="rId1"/>
          <a:stretch/>
        </p:blipFill>
        <p:spPr>
          <a:xfrm>
            <a:off x="228600" y="1143000"/>
            <a:ext cx="2619360" cy="3429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flag"/>
          <p:cNvPicPr/>
          <p:nvPr/>
        </p:nvPicPr>
        <p:blipFill>
          <a:blip r:embed="rId2"/>
          <a:stretch/>
        </p:blipFill>
        <p:spPr>
          <a:xfrm>
            <a:off x="1542960" y="4324320"/>
            <a:ext cx="3181320" cy="2381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5192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Georgia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</a:rPr>
              <a:t>The Battle of New Orleans (1815)</a:t>
            </a:r>
            <a:endParaRPr b="1" lang="en-US" sz="24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most famous/important battle of the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ere lead to victory by General Andrew Jacks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attle continued even after the war ended because word did not reach the Americans for several week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7" name="Picture 8" descr="bonorr"/>
          <p:cNvPicPr/>
          <p:nvPr/>
        </p:nvPicPr>
        <p:blipFill>
          <a:blip r:embed="rId1"/>
          <a:stretch/>
        </p:blipFill>
        <p:spPr>
          <a:xfrm>
            <a:off x="6019920" y="3733920"/>
            <a:ext cx="2933640" cy="2943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ajackson"/>
          <p:cNvPicPr/>
          <p:nvPr/>
        </p:nvPicPr>
        <p:blipFill>
          <a:blip r:embed="rId2"/>
          <a:stretch/>
        </p:blipFill>
        <p:spPr>
          <a:xfrm>
            <a:off x="4672080" y="1219320"/>
            <a:ext cx="2185920" cy="283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Ghent"/>
          <p:cNvPicPr/>
          <p:nvPr/>
        </p:nvPicPr>
        <p:blipFill>
          <a:blip r:embed="rId1"/>
          <a:stretch/>
        </p:blipFill>
        <p:spPr>
          <a:xfrm>
            <a:off x="380880" y="1295280"/>
            <a:ext cx="3505320" cy="24544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4796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Georgia"/>
              <a:buAutoNum type="alpha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</a:rPr>
              <a:t>The Treaty of Ghent</a:t>
            </a:r>
            <a:endParaRPr b="1" lang="en-US" sz="2400" spc="-1" strike="noStrike">
              <a:solidFill>
                <a:srgbClr val="a50021"/>
              </a:solidFill>
              <a:latin typeface="Georgia"/>
            </a:endParaRPr>
          </a:p>
          <a:p>
            <a:pPr lvl="1" marL="105588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December, 1815, British and Americans met in Ghent, Belgium to negotiate a peace trea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5588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Results of the wa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0840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and American became better all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0840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 gained respect from other count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Picture 4" descr="Treaty of Ghent"/>
          <p:cNvPicPr/>
          <p:nvPr/>
        </p:nvPicPr>
        <p:blipFill>
          <a:blip r:embed="rId2"/>
          <a:stretch/>
        </p:blipFill>
        <p:spPr>
          <a:xfrm>
            <a:off x="1447920" y="3886200"/>
            <a:ext cx="3504960" cy="2454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5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4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4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dddddd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ernhardMod BT"/>
              </a:rPr>
              <a:t>End</a:t>
            </a: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5"/>
          <p:cNvSpPr/>
          <p:nvPr/>
        </p:nvSpPr>
        <p:spPr>
          <a:xfrm>
            <a:off x="1447920" y="10666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Chapter 6, Sec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809880" y="1752120"/>
            <a:ext cx="51818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Causes of the War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mpress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and France were fighting a war in Europ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began capturing American sailors and “impressing” them, or forcing them to work on British ship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y 1807, Britain had seized more than 1,000 American ship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1" name="Picture 11" descr="impressment2"/>
          <p:cNvPicPr/>
          <p:nvPr/>
        </p:nvPicPr>
        <p:blipFill>
          <a:blip r:embed="rId1"/>
          <a:stretch/>
        </p:blipFill>
        <p:spPr>
          <a:xfrm>
            <a:off x="152280" y="1143000"/>
            <a:ext cx="3505320" cy="3006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92" name="Picture 7" descr="1808_11ill"/>
          <p:cNvPicPr/>
          <p:nvPr/>
        </p:nvPicPr>
        <p:blipFill>
          <a:blip r:embed="rId2"/>
          <a:stretch/>
        </p:blipFill>
        <p:spPr>
          <a:xfrm>
            <a:off x="1676520" y="4191120"/>
            <a:ext cx="3352680" cy="246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9" descr="149-Embargo"/>
          <p:cNvPicPr/>
          <p:nvPr/>
        </p:nvPicPr>
        <p:blipFill>
          <a:blip r:embed="rId1"/>
          <a:stretch/>
        </p:blipFill>
        <p:spPr>
          <a:xfrm>
            <a:off x="76320" y="1523880"/>
            <a:ext cx="3902040" cy="26020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657240" y="1752120"/>
            <a:ext cx="5334120" cy="43434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Embargo Act of 180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sident Jefferson convinced Congress to declare an embarg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Jefferson believed the embargo would hurt Britain, but it really hurt Americ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1809, Congress ended the embargo with all countries except Britain and Fr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5" name="Picture 17" descr="no embargo"/>
          <p:cNvPicPr/>
          <p:nvPr/>
        </p:nvPicPr>
        <p:blipFill>
          <a:blip r:embed="rId2"/>
          <a:stretch/>
        </p:blipFill>
        <p:spPr>
          <a:xfrm>
            <a:off x="1371600" y="4137120"/>
            <a:ext cx="3433680" cy="2415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343400" cy="464832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merica’s Desire for Cana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saw that Canada was not well-defended by 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anted more land and believed that people in Canada would want to join the United Stat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7" name="Picture 11" descr="Map: British North America and the United States at the time of the War"/>
          <p:cNvPicPr/>
          <p:nvPr/>
        </p:nvPicPr>
        <p:blipFill>
          <a:blip r:embed="rId1"/>
          <a:stretch/>
        </p:blipFill>
        <p:spPr>
          <a:xfrm>
            <a:off x="4572000" y="1143000"/>
            <a:ext cx="4516560" cy="571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809880" y="1752480"/>
            <a:ext cx="5181840" cy="373392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Hawks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group of Republican Congressmen from the South and Wes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anted war against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d by Senator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John C. Calhou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South Carolina and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enry Clar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Kentuck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9" name="Picture 10" descr="john c calhoun"/>
          <p:cNvPicPr/>
          <p:nvPr/>
        </p:nvPicPr>
        <p:blipFill>
          <a:blip r:embed="rId1"/>
          <a:stretch/>
        </p:blipFill>
        <p:spPr>
          <a:xfrm>
            <a:off x="228600" y="1143000"/>
            <a:ext cx="2765520" cy="3154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henry clay"/>
          <p:cNvPicPr/>
          <p:nvPr/>
        </p:nvPicPr>
        <p:blipFill>
          <a:blip r:embed="rId2"/>
          <a:stretch/>
        </p:blipFill>
        <p:spPr>
          <a:xfrm>
            <a:off x="1371600" y="3657600"/>
            <a:ext cx="2808360" cy="3154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343400" cy="28958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Election of 1808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02600" indent="-57276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James Madis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a Democratic-Republican, w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02600" indent="-57276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the Spring of 1812, Madison decided to go to war against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2" name="Picture 9" descr="war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4648320" y="3719520"/>
            <a:ext cx="4267080" cy="2986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Madison"/>
          <p:cNvPicPr/>
          <p:nvPr/>
        </p:nvPicPr>
        <p:blipFill>
          <a:blip r:embed="rId2"/>
          <a:stretch/>
        </p:blipFill>
        <p:spPr>
          <a:xfrm>
            <a:off x="3386160" y="1403280"/>
            <a:ext cx="3548160" cy="2482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4796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in Canada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ere unprepared for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ritish captured Detroit and the Americans failed to capture Cana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ny Native Americans helped the British because they wanted to stop Americans from taking more la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5" name="Picture 14" descr="war1812"/>
          <p:cNvPicPr/>
          <p:nvPr/>
        </p:nvPicPr>
        <p:blipFill>
          <a:blip r:embed="rId1"/>
          <a:stretch/>
        </p:blipFill>
        <p:spPr>
          <a:xfrm>
            <a:off x="152280" y="11430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" descr="invade canada"/>
          <p:cNvPicPr/>
          <p:nvPr/>
        </p:nvPicPr>
        <p:blipFill>
          <a:blip r:embed="rId2"/>
          <a:stretch/>
        </p:blipFill>
        <p:spPr>
          <a:xfrm>
            <a:off x="1676520" y="4334040"/>
            <a:ext cx="3714480" cy="260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953240" cy="4114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at Sea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U.S. Navy was young and outnumber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November of 1812, the British blockaded the Chesapeake and Delaware Bay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lockade grew throughout the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y 1813, most American ships were unable to leave their por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8" name="Picture 15" descr="1812Jansonsinking"/>
          <p:cNvPicPr/>
          <p:nvPr/>
        </p:nvPicPr>
        <p:blipFill>
          <a:blip r:embed="rId1"/>
          <a:stretch/>
        </p:blipFill>
        <p:spPr>
          <a:xfrm>
            <a:off x="5159520" y="1752480"/>
            <a:ext cx="3832200" cy="4953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2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18:11:47Z</dcterms:created>
  <dc:creator>Liz Koppany</dc:creator>
  <dc:description/>
  <dc:language>en-US</dc:language>
  <cp:lastModifiedBy>RomaK</cp:lastModifiedBy>
  <dcterms:modified xsi:type="dcterms:W3CDTF">2015-09-04T09:34:37Z</dcterms:modified>
  <cp:revision>77</cp:revision>
  <dc:subject/>
  <dc:title>Slide 1</dc:title>
</cp:coreProperties>
</file>